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9342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9336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1440" y="-4680"/>
            <a:ext cx="300816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1"/>
          </p:nvPr>
        </p:nvSpPr>
        <p:spPr>
          <a:xfrm>
            <a:off x="3927600" y="-4680"/>
            <a:ext cx="300816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2"/>
          </p:nvPr>
        </p:nvSpPr>
        <p:spPr>
          <a:xfrm>
            <a:off x="-1440" y="8758080"/>
            <a:ext cx="300816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3"/>
          </p:nvPr>
        </p:nvSpPr>
        <p:spPr>
          <a:xfrm>
            <a:off x="3927600" y="8758080"/>
            <a:ext cx="300816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7B810C3-3B7E-4997-A6DF-BCD0F23EE69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2830320" y="8780400"/>
            <a:ext cx="127260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39536b"/>
                </a:solidFill>
                <a:latin typeface="Arial"/>
              </a:rPr>
              <a:t>Page </a:t>
            </a:r>
            <a:fld id="{84A8A5DD-B12B-45F8-8BE9-EBD98043E166}" type="slidenum">
              <a:rPr b="0" lang="en-US" sz="12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Img"/>
          </p:nvPr>
        </p:nvSpPr>
        <p:spPr>
          <a:xfrm>
            <a:off x="1172880" y="700200"/>
            <a:ext cx="4586040" cy="3441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8920" rIns="88920" tIns="44640" bIns="4464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6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7160" bIns="4716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73240" y="700200"/>
            <a:ext cx="4586040" cy="34416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927600" y="875808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29DBCF1-D87D-461B-85E7-8589001BEBC7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73240" y="700200"/>
            <a:ext cx="4586040" cy="34416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927600" y="875808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3C8830E-2E7F-405A-B0A3-0C14A4C09F16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73240" y="700200"/>
            <a:ext cx="4586040" cy="34416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927600" y="875808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FC4D9B0-8278-41CE-B9CC-43C42117A760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73240" y="700200"/>
            <a:ext cx="4586040" cy="34416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927600" y="875808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6D75A7F-D855-4EE9-ADC0-AD04899027C1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73240" y="700200"/>
            <a:ext cx="4586040" cy="34416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927600" y="875808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2954163-992C-443E-89D5-1CD6860F2EDB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73240" y="700200"/>
            <a:ext cx="4586040" cy="34416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927600" y="875808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4322479-DE64-48C2-83B3-0F53C3875DEA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73240" y="700200"/>
            <a:ext cx="4586040" cy="34416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927600" y="875808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75B2FFE-89D5-4B74-BF94-3CF82665C3B1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73240" y="700200"/>
            <a:ext cx="4586040" cy="34416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6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7160" bIns="4716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alize this meeting may be start of team-building process.  Is the team interacting with each other?  How do they treat the team leader?  How does the team leader interact with the team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73240" y="700200"/>
            <a:ext cx="4586040" cy="34416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927600" y="875808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8860F60-8EF1-4833-AEB0-02DA55497C8A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73240" y="700200"/>
            <a:ext cx="4586040" cy="34416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927600" y="875808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1CA4A27A-3BDE-43EB-B26D-A821098C3392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73240" y="700200"/>
            <a:ext cx="4586040" cy="34416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927600" y="875808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E72A475-13DB-40E7-A365-440383B0BE6B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73240" y="700200"/>
            <a:ext cx="4586040" cy="34416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927600" y="875808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28190AE-AEBF-4029-A147-7F5D685D5AB5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73240" y="700200"/>
            <a:ext cx="4586040" cy="34416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927600" y="875808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75E6A30-A7DB-477F-BF4F-FECDEA226014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73240" y="700200"/>
            <a:ext cx="4586040" cy="34416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6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7160" bIns="4716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cate the script LAU1 in your launch notebooks.  Talk about the fact that some organizations don’t have marketing.  It is important for management to present the perspective of marketin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73240" y="700200"/>
            <a:ext cx="4586040" cy="34416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927600" y="875808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920FB2C-F851-49BD-8D5E-4FE05A899D64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73240" y="700200"/>
            <a:ext cx="4586040" cy="34416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927600" y="875808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273ACDE-09E6-4978-86EC-42CC8362FFAC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73240" y="700200"/>
            <a:ext cx="4586040" cy="34416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23400" y="4379400"/>
            <a:ext cx="5086440" cy="41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927600" y="875808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A64E5F8-9C07-4CE5-B7E0-F5F6E1F189AF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3080" indent="-343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343080" indent="-34308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343080" indent="-34308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0800" y="6566040"/>
            <a:ext cx="230724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2013 by Carnegie Mellon Universit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3913560" y="6567480"/>
            <a:ext cx="11548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September 2013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621504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TSP Coach Training – Module 4 - </a:t>
            </a:r>
            <a:fld id="{1CFE9F95-35FB-4FE3-85B3-E44DC2AB0FF8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5" name="Picture 7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6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1058760" y="4967280"/>
            <a:ext cx="7313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his material is approved for public release. Distribution is limited by the Software Engineering Institute to attendees.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2013 by Carnegie Mellon University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5" name="Line 4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3910320" y="6567480"/>
            <a:ext cx="11548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September 2013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938880" y="73188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ittsburgh, PA 15213-3890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48" name="Picture 8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9"/>
          <p:cNvSpPr/>
          <p:nvPr/>
        </p:nvSpPr>
        <p:spPr>
          <a:xfrm>
            <a:off x="621504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TSP Coach Training – Module 4 - </a:t>
            </a:r>
            <a:fld id="{401376C8-B6FF-4391-AA88-F92B319D00EE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3080" indent="-343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343080" indent="-34308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343080" indent="-34308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launch%20meeting%201%20mgtmkt%20presentation.ppt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1049400" y="1184400"/>
            <a:ext cx="7872480" cy="23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200" spc="-1" strike="noStrike">
                <a:solidFill>
                  <a:srgbClr val="9c2108"/>
                </a:solidFill>
                <a:latin typeface="Century Schoolbook"/>
              </a:rPr>
              <a:t>TSP Coach Training</a:t>
            </a:r>
            <a:endParaRPr b="0" lang="en-US" sz="3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4000" spc="-1" strike="noStrike">
                <a:solidFill>
                  <a:srgbClr val="9c2108"/>
                </a:solidFill>
                <a:latin typeface="Century Schoolbook"/>
              </a:rPr>
              <a:t>The Launch Process - Meeting 1</a:t>
            </a: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reparation for Meeting 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028520" y="1490400"/>
            <a:ext cx="7399080" cy="48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Meeting 1 is the first meeting in the launch.  Therefore, it includes many of the other launch preparation task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o prepare for a launch, checklists and guidelines are provided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i="1" lang="en-US" sz="2000" spc="-1" strike="noStrike">
                <a:solidFill>
                  <a:srgbClr val="39536b"/>
                </a:solidFill>
                <a:latin typeface="Arial"/>
              </a:rPr>
              <a:t>Launch Preparation Checklist (PREPL)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i="1" lang="en-US" sz="2000" spc="-1" strike="noStrike">
                <a:solidFill>
                  <a:srgbClr val="39536b"/>
                </a:solidFill>
                <a:latin typeface="Arial"/>
              </a:rPr>
              <a:t>Team Launch Preparation Guideline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i="1" lang="en-US" sz="2000" spc="-1" strike="noStrike">
                <a:solidFill>
                  <a:srgbClr val="39536b"/>
                </a:solidFill>
                <a:latin typeface="Arial"/>
              </a:rPr>
              <a:t>Product Discussion Guideline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i="1" lang="en-US" sz="2000" spc="-1" strike="noStrike">
                <a:solidFill>
                  <a:srgbClr val="39536b"/>
                </a:solidFill>
                <a:latin typeface="Arial"/>
              </a:rPr>
              <a:t>Senior Management Goals Discussion Guideline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i="1" lang="en-US" sz="2000" spc="-1" strike="noStrike">
                <a:solidFill>
                  <a:srgbClr val="39536b"/>
                </a:solidFill>
                <a:latin typeface="Arial"/>
              </a:rPr>
              <a:t>Team Member Meeting 1 Discussion Guideline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i="1" lang="en-US" sz="2000" spc="-1" strike="noStrike">
                <a:solidFill>
                  <a:srgbClr val="39536b"/>
                </a:solidFill>
                <a:latin typeface="Arial"/>
              </a:rPr>
              <a:t>Team Leader Meeting 1 Discussion Guideline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s the coach, it is your responsibility to make sure that you, your team, management, and marketing are prepared for the launch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onsider getting administrative help, especially if you are located off-sit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Preparing Management and Marketing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  <a:ea typeface="Times New Roman"/>
              </a:rPr>
              <a:t>In addition to addressing the items on the </a:t>
            </a:r>
            <a:r>
              <a:rPr b="0" i="1" lang="en-US" sz="2200" spc="-1" strike="noStrike">
                <a:solidFill>
                  <a:srgbClr val="39536b"/>
                </a:solidFill>
                <a:latin typeface="Arial"/>
                <a:ea typeface="Times New Roman"/>
              </a:rPr>
              <a:t>PREPL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  <a:ea typeface="Times New Roman"/>
              </a:rPr>
              <a:t> checklist, the coach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  <a:ea typeface="Times New Roman"/>
              </a:rPr>
              <a:t>should make sure that management and marketing know what to present to the tea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  <a:ea typeface="Times New Roman"/>
              </a:rPr>
              <a:t>may hold a pre-launch meeting with management and marketing to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  <a:ea typeface="Times New Roman"/>
              </a:rPr>
              <a:t>answer ques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  <a:ea typeface="Times New Roman"/>
              </a:rPr>
              <a:t>provide guidance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  <a:ea typeface="Times New Roman"/>
              </a:rPr>
              <a:t>ensure that management and marketing have read and understood the product discussion guidelines and senior management goal discussion guideline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06560" y="890280"/>
            <a:ext cx="81374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000" spc="-1" strike="noStrike">
                <a:solidFill>
                  <a:srgbClr val="9c2108"/>
                </a:solidFill>
                <a:latin typeface="Arial"/>
              </a:rPr>
              <a:t>Management and Marketing Presentations</a:t>
            </a:r>
            <a:endParaRPr b="1" lang="en-US" sz="30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nagement and Marketing presentations should answer the following questions: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3000" indent="-20592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What is the team being asked to accomplish in this phase or cycle?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3000" indent="-20592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What are the quality, schedule and cost goals?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3000" indent="-20592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What are other stated goals?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3000" indent="-20592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What is a minimally successful plan? How are the goals to be prioritized and what is the flexibility?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3000" indent="-20592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Why is this work important? What is the strategic or big picture goal and objective?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3000" indent="-20592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What resources are available to accomplish these goals?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3000" indent="-20592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Why we are using TSP for this project?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3000" indent="-20592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How will the goals be measured?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3000" indent="-20592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3000" indent="-20592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ource: TSP BOK, CMU/SEI-2010-TR-020, Section C3.2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reparing the Team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  <a:ea typeface="Times New Roman"/>
              </a:rPr>
              <a:t>The coach may also want to spend some time with the team prior to meeting 1 to 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  <a:ea typeface="Times New Roman"/>
              </a:rPr>
              <a:t>ensure that the team knows that its job for meeting 1 is to understand the product objectives/business goal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  <a:ea typeface="Times New Roman"/>
              </a:rPr>
              <a:t>emphasize the importance of a positive, can-do attitud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  <a:ea typeface="Times New Roman"/>
              </a:rPr>
              <a:t>suggest postponing schedule and functionality debates with management until the team has a pla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  <a:ea typeface="Times New Roman"/>
              </a:rPr>
              <a:t>ensure that team members have read and understood the team member meeting 1 discussion guidelin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eeting 1 Exercis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xercise purpos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nderstand how launch meeting 1 is conduct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cognize issues that might arise and how to deal with the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irections (see meeting 1 exercise workbook)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m into groups that will act as a TSP team for all nine launch exercises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n instructor will play the role of the coach for each group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view the </a:t>
            </a:r>
            <a:r>
              <a:rPr b="0" i="1" lang="en-US" sz="2200" spc="-1" strike="noStrike">
                <a:solidFill>
                  <a:srgbClr val="0070c0"/>
                </a:solidFill>
                <a:latin typeface="Arial"/>
              </a:rPr>
              <a:t>LAU1</a:t>
            </a:r>
            <a:r>
              <a:rPr b="0" lang="en-US" sz="2200" spc="-1" strike="noStrike">
                <a:solidFill>
                  <a:srgbClr val="66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nd </a:t>
            </a:r>
            <a:r>
              <a:rPr b="0" i="1" lang="en-US" sz="2200" spc="-1" strike="noStrike">
                <a:solidFill>
                  <a:srgbClr val="0070c0"/>
                </a:solidFill>
                <a:latin typeface="Arial"/>
              </a:rPr>
              <a:t>Team Member Meeting 1 Discussion Guidelines</a:t>
            </a: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the Launch noteboo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eeting 1 Exercise </a:t>
            </a:r>
            <a:r>
              <a:rPr b="1" lang="en-US" sz="2000" spc="-1" strike="noStrike">
                <a:solidFill>
                  <a:srgbClr val="9c2108"/>
                </a:solidFill>
                <a:latin typeface="Arial"/>
              </a:rPr>
              <a:t>(continued)</a:t>
            </a:r>
            <a:endParaRPr b="1" lang="en-US" sz="20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irections </a:t>
            </a:r>
            <a:r>
              <a:rPr b="0" lang="en-US" sz="1200" spc="-1" strike="noStrike">
                <a:solidFill>
                  <a:srgbClr val="39536b"/>
                </a:solidFill>
                <a:latin typeface="Arial"/>
              </a:rPr>
              <a:t>(continued)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nduct launch meeting 1 (with following changes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Launch Overview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presenta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structors will play roles of management and marketing for the </a:t>
            </a:r>
            <a:r>
              <a:rPr b="0" lang="en-US" sz="2200" spc="-1" strike="noStrike" u="sng">
                <a:solidFill>
                  <a:srgbClr val="9c2108"/>
                </a:solidFill>
                <a:uFillTx/>
                <a:latin typeface="Arial"/>
                <a:hlinkClick r:id="rId1"/>
              </a:rPr>
              <a:t>presenta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rite down your questions during the management and marketing presenta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am discussion of questions after presenta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structors will answer team question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xercise debrief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aching Consideration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017720" y="1580760"/>
            <a:ext cx="7742160" cy="472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The agenda is flexible. 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19680" indent="-19764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the order of the management and product presentations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19680" indent="-19764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separating the two Q &amp; A sessions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Be prepared for the following scenarios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19680" indent="-19764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Nobody asks questions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19680" indent="-19764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Everybody asks questions at the same time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19680" indent="-19764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The questions are contentious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19680" indent="-19764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The meeting turns into a requirements specification meeting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19680" indent="-19764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The meeting turns into a design meeting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19680" indent="-19764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The meeting turns into problem solving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19680" indent="-19764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Make sure that important issues are addressed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19680" indent="-19764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What are the important dates? 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19680" indent="-19764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Are the dates flexible?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19680" indent="-19764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Will more resources be available?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19680" indent="-19764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What are the priorities?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19680" indent="-19764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If management and marketing do not use slides, the coach or the team leader may want to capture key points on a flip chart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essages to Remember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first step in the launch is for the team to understand what they are being asked to do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s is accomplished by having marketing and management meet with the team to conve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they want the team to develop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n the product is need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resources the team ha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flexibility the team ha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y this job is importa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ow success will be measur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Lecture Objectiv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t the end of this lecture, you wil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nderstand the purpose of meeting 1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nderstand the coach role for meeting 1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cognize common occurrences and problems, and know how to handle the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Lecture Overview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urpose of meeting 1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cedures for meeting 1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eeting 1 exercis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aching considerations for meeting 1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1038240" y="1778040"/>
            <a:ext cx="1447920" cy="990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  Establish 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duct and 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siness 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Launch Process Meeting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1038240" y="3075120"/>
            <a:ext cx="1447920" cy="98892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2.  Assign roles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and define 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team goals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2790720" y="1778040"/>
            <a:ext cx="1447920" cy="99072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4.  Build overall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near-term 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lans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2790720" y="3025800"/>
            <a:ext cx="1447920" cy="98892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5.  Develop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the quality 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lan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2790720" y="4368960"/>
            <a:ext cx="1447920" cy="99036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6.  Build</a:t>
            </a:r>
            <a:br>
              <a:rPr sz="1200"/>
            </a:b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individual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consolidated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lans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07" name="Line 10"/>
          <p:cNvSpPr/>
          <p:nvPr/>
        </p:nvSpPr>
        <p:spPr>
          <a:xfrm>
            <a:off x="1725480" y="2768760"/>
            <a:ext cx="0" cy="306360"/>
          </a:xfrm>
          <a:prstGeom prst="line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08" name="Line 11"/>
          <p:cNvSpPr/>
          <p:nvPr/>
        </p:nvSpPr>
        <p:spPr>
          <a:xfrm>
            <a:off x="3552840" y="2768760"/>
            <a:ext cx="0" cy="306360"/>
          </a:xfrm>
          <a:prstGeom prst="line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09" name="Line 12"/>
          <p:cNvSpPr/>
          <p:nvPr/>
        </p:nvSpPr>
        <p:spPr>
          <a:xfrm>
            <a:off x="3552840" y="4064040"/>
            <a:ext cx="0" cy="304920"/>
          </a:xfrm>
          <a:prstGeom prst="line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0" name="Line 13"/>
          <p:cNvSpPr/>
          <p:nvPr/>
        </p:nvSpPr>
        <p:spPr>
          <a:xfrm flipV="1">
            <a:off x="2639880" y="2311200"/>
            <a:ext cx="0" cy="327636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1" name="Line 14"/>
          <p:cNvSpPr/>
          <p:nvPr/>
        </p:nvSpPr>
        <p:spPr>
          <a:xfrm>
            <a:off x="2639880" y="2311560"/>
            <a:ext cx="150840" cy="0"/>
          </a:xfrm>
          <a:prstGeom prst="line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2" name="Rectangle 16"/>
          <p:cNvSpPr/>
          <p:nvPr/>
        </p:nvSpPr>
        <p:spPr>
          <a:xfrm>
            <a:off x="4619520" y="1778040"/>
            <a:ext cx="1447920" cy="99072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7.  Conduct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risk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assessment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3" name="Rectangle 17"/>
          <p:cNvSpPr/>
          <p:nvPr/>
        </p:nvSpPr>
        <p:spPr>
          <a:xfrm>
            <a:off x="4619520" y="3075120"/>
            <a:ext cx="1447920" cy="98892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8.  Prepare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management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briefing and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launch report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4" name="Rectangle 18"/>
          <p:cNvSpPr/>
          <p:nvPr/>
        </p:nvSpPr>
        <p:spPr>
          <a:xfrm>
            <a:off x="6524640" y="3075120"/>
            <a:ext cx="1447920" cy="98892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Launch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ostmortem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5" name="Line 19"/>
          <p:cNvSpPr/>
          <p:nvPr/>
        </p:nvSpPr>
        <p:spPr>
          <a:xfrm>
            <a:off x="5381640" y="2768760"/>
            <a:ext cx="0" cy="306360"/>
          </a:xfrm>
          <a:prstGeom prst="line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6" name="Line 20"/>
          <p:cNvSpPr/>
          <p:nvPr/>
        </p:nvSpPr>
        <p:spPr>
          <a:xfrm>
            <a:off x="7210440" y="2768760"/>
            <a:ext cx="0" cy="306360"/>
          </a:xfrm>
          <a:prstGeom prst="line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7" name="Line 21"/>
          <p:cNvSpPr/>
          <p:nvPr/>
        </p:nvSpPr>
        <p:spPr>
          <a:xfrm flipV="1">
            <a:off x="4467240" y="2311200"/>
            <a:ext cx="0" cy="327636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8" name="Line 22"/>
          <p:cNvSpPr/>
          <p:nvPr/>
        </p:nvSpPr>
        <p:spPr>
          <a:xfrm>
            <a:off x="4467240" y="2311560"/>
            <a:ext cx="152280" cy="0"/>
          </a:xfrm>
          <a:prstGeom prst="line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9" name="Line 23"/>
          <p:cNvSpPr/>
          <p:nvPr/>
        </p:nvSpPr>
        <p:spPr>
          <a:xfrm flipH="1">
            <a:off x="3552840" y="5587920"/>
            <a:ext cx="91440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0" name="Line 24"/>
          <p:cNvSpPr/>
          <p:nvPr/>
        </p:nvSpPr>
        <p:spPr>
          <a:xfrm flipV="1">
            <a:off x="3552840" y="5358960"/>
            <a:ext cx="0" cy="22860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1" name="Rectangle 26"/>
          <p:cNvSpPr/>
          <p:nvPr/>
        </p:nvSpPr>
        <p:spPr>
          <a:xfrm>
            <a:off x="6524640" y="1778040"/>
            <a:ext cx="1447920" cy="99072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9.  Hold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management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review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2" name="Line 27"/>
          <p:cNvSpPr/>
          <p:nvPr/>
        </p:nvSpPr>
        <p:spPr>
          <a:xfrm flipV="1">
            <a:off x="6372360" y="2311560"/>
            <a:ext cx="0" cy="197928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3" name="Line 28"/>
          <p:cNvSpPr/>
          <p:nvPr/>
        </p:nvSpPr>
        <p:spPr>
          <a:xfrm>
            <a:off x="6372360" y="2311560"/>
            <a:ext cx="152280" cy="0"/>
          </a:xfrm>
          <a:prstGeom prst="line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4" name="Line 29"/>
          <p:cNvSpPr/>
          <p:nvPr/>
        </p:nvSpPr>
        <p:spPr>
          <a:xfrm flipH="1">
            <a:off x="5381640" y="4290840"/>
            <a:ext cx="99072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5" name="Line 30"/>
          <p:cNvSpPr/>
          <p:nvPr/>
        </p:nvSpPr>
        <p:spPr>
          <a:xfrm flipV="1">
            <a:off x="5381640" y="4064040"/>
            <a:ext cx="0" cy="22680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6" name="Rectangle 31"/>
          <p:cNvSpPr/>
          <p:nvPr/>
        </p:nvSpPr>
        <p:spPr>
          <a:xfrm>
            <a:off x="1038240" y="4368960"/>
            <a:ext cx="1447920" cy="99036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3.  Produce 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development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strategy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and process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7" name="Line 32"/>
          <p:cNvSpPr/>
          <p:nvPr/>
        </p:nvSpPr>
        <p:spPr>
          <a:xfrm>
            <a:off x="1725480" y="4064040"/>
            <a:ext cx="0" cy="304920"/>
          </a:xfrm>
          <a:prstGeom prst="line">
            <a:avLst/>
          </a:prstGeom>
          <a:ln w="12600">
            <a:solidFill>
              <a:srgbClr val="39536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8" name="Line 33"/>
          <p:cNvSpPr/>
          <p:nvPr/>
        </p:nvSpPr>
        <p:spPr>
          <a:xfrm flipV="1">
            <a:off x="1725480" y="5358960"/>
            <a:ext cx="0" cy="22860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9" name="Line 34"/>
          <p:cNvSpPr/>
          <p:nvPr/>
        </p:nvSpPr>
        <p:spPr>
          <a:xfrm flipH="1">
            <a:off x="1725480" y="5587920"/>
            <a:ext cx="91440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0" name="Text Box 35"/>
          <p:cNvSpPr/>
          <p:nvPr/>
        </p:nvSpPr>
        <p:spPr>
          <a:xfrm>
            <a:off x="4884840" y="4903920"/>
            <a:ext cx="38401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A TSP team coach guides the team through a defined process to develop its plan and to negotiate that plan with management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urpose for Meeting 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  <a:ea typeface="Times New Roman"/>
              </a:rPr>
              <a:t>The purpose for meeting 1 is fo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3080" indent="-22860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  <a:ea typeface="Times New Roman"/>
              </a:rPr>
              <a:t>organizational and project management to describe the project objectives and management goals to the tea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3080" indent="-22860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  <a:ea typeface="Times New Roman"/>
              </a:rPr>
              <a:t>team members to understand what the team is supposed to d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3080" indent="-22860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  <a:ea typeface="Times New Roman"/>
              </a:rPr>
              <a:t>the team-building process to begi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3080" indent="-22860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  <a:ea typeface="Times New Roman"/>
              </a:rPr>
              <a:t>the commitment process to begi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rocedure for Meeting 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017720" y="1577880"/>
            <a:ext cx="78451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</a:t>
            </a:r>
            <a:r>
              <a:rPr b="0" i="1" lang="en-US" sz="2000" spc="-1" strike="noStrike">
                <a:solidFill>
                  <a:srgbClr val="39536b"/>
                </a:solidFill>
                <a:latin typeface="Arial"/>
              </a:rPr>
              <a:t>TSP Launch Meeting Script 1 (LAU1)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guides this meeting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script describes what happens in the meeting, including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election of meeting roles (timekeeper, recorder)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oach presentation of TSP and launch overview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management presentation of business needs and business goals for the project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eam questioning to understand and clarify business needs and business goal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marketing presentation of product/service objective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eam questioning to understand and clarify the product/service objectives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n organizations that do not have “marketing,” stress the importance of the two perspectives being represented even if by the same person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SP and Launch Overview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79400" y="1531800"/>
            <a:ext cx="8104320" cy="48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One of the first agenda items for meeting 1 is the TSP and launch overview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coach presents the overview to familiarize the team and management what they will be doing in the launch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overview is a high-level description of th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SP structure and flow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SP launch proces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roducts produced during the launch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SP team role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overview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s located in the </a:t>
            </a:r>
            <a:r>
              <a:rPr b="0" i="1" lang="en-US" sz="2000" spc="-1" strike="noStrike">
                <a:solidFill>
                  <a:srgbClr val="39536b"/>
                </a:solidFill>
                <a:latin typeface="Arial"/>
              </a:rPr>
              <a:t>Meeting 1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tab of the launch notebook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will be provided to you as TSP Provisional Coach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overview is usually only given if some of the Meeting 1 participants have never received any PSP/TSP training or a refresher is needed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anagement Presentatio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717480" y="1490400"/>
            <a:ext cx="7710480" cy="48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A senior management representative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describes the business goals and objectives for the project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answers team questions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  <a:ea typeface="Times New Roman"/>
              </a:rPr>
              <a:t>Management wants the team to do a job.  This is their chance to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  <a:ea typeface="Times New Roman"/>
              </a:rPr>
              <a:t>tell the team what the job is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  <a:ea typeface="Times New Roman"/>
              </a:rPr>
              <a:t>why the job is important to the organization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  <a:ea typeface="Times New Roman"/>
              </a:rPr>
              <a:t>why this particular team is the best team to do the job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  <a:ea typeface="Times New Roman"/>
              </a:rPr>
              <a:t>motivate the team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The team asks questions to make sure that they understand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the resources and flexibility they have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how management will determine success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what requirements are “must haves” and which are “nice to haves”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Preparation and participation guidelines are provided for the management representative, the team leader, and the team members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arketing Presentatio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017360" y="1506240"/>
            <a:ext cx="741348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 marketing or customer representativ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escribes the product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ummarizes the need for the product/servic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ompares the product/service to any competitive products/service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nswers the team’s question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team members make sure that they understand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  <a:ea typeface="Times New Roman"/>
              </a:rPr>
              <a:t>customer need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  <a:ea typeface="Times New Roman"/>
              </a:rPr>
              <a:t>marketing need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  <a:ea typeface="Times New Roman"/>
              </a:rPr>
              <a:t>what is absolutely required and what may be “nice to have”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  <a:ea typeface="Times New Roman"/>
              </a:rPr>
              <a:t>Preparation and participation guidelines are provided for th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marketing or customer representative, the team members, and the team leader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15:45:23Z</dcterms:created>
  <dc:creator>Stacy Mitchell</dc:creator>
  <dc:description/>
  <cp:keywords/>
  <dc:language>en-US</dc:language>
  <cp:lastModifiedBy>wrn_loc_adm</cp:lastModifiedBy>
  <cp:lastPrinted>2000-12-21T16:04:54Z</cp:lastPrinted>
  <dcterms:modified xsi:type="dcterms:W3CDTF">2018-09-06T01:11:50Z</dcterms:modified>
  <cp:revision>208</cp:revision>
  <dc:subject/>
  <dc:title>No Slide Title</dc:title>
</cp:coreProperties>
</file>